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FB58-205E-4845-A944-2E8AED339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1616-8AA8-46FC-9D06-D8F713605AC0}" type="slidenum">
              <a:rPr b="0" lang="en-US" sz="1200" spc="-1" strike="noStrike">
                <a:solidFill>
                  <a:srgbClr val="000000"/>
                </a:solidFill>
                <a:latin typeface="HY견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16" name="슬라이드 노트 개체 틀 7"/>
          <p:cNvSpPr/>
          <p:nvPr/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25320" indent="-2635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81000" indent="-176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18640" y="352080"/>
            <a:ext cx="7791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4132800" y="6548400"/>
            <a:ext cx="81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00D8-6A31-453E-BA63-85F06D025B73}" type="slidenum">
              <a:rPr b="1" lang="en-US" sz="1100" spc="-1" strike="noStrike">
                <a:solidFill>
                  <a:srgbClr val="080808"/>
                </a:solidFill>
                <a:latin typeface="Times New Roman"/>
                <a:ea typeface="HY헤드라인M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25320" indent="-2635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81000" indent="-176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818640" y="352080"/>
            <a:ext cx="7791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2" descr="표지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spcBef>
                <a:spcPts val="700"/>
              </a:spcBef>
              <a:buClr>
                <a:srgbClr val="2eba2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견고딕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lvl="3" marL="1600200" indent="-228600">
              <a:spcBef>
                <a:spcPts val="499"/>
              </a:spcBef>
              <a:buClr>
                <a:srgbClr val="9999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4" marL="2057400" indent="-228600">
              <a:spcBef>
                <a:spcPts val="4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543" name="Picture 18" descr="6"/>
          <p:cNvPicPr/>
          <p:nvPr/>
        </p:nvPicPr>
        <p:blipFill>
          <a:blip r:embed="rId1"/>
          <a:stretch/>
        </p:blipFill>
        <p:spPr>
          <a:xfrm>
            <a:off x="5695920" y="0"/>
            <a:ext cx="3448080" cy="6856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9" descr="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0" descr="5"/>
          <p:cNvPicPr/>
          <p:nvPr/>
        </p:nvPicPr>
        <p:blipFill>
          <a:blip r:embed="rId3"/>
          <a:stretch/>
        </p:blipFill>
        <p:spPr>
          <a:xfrm>
            <a:off x="0" y="4290840"/>
            <a:ext cx="4057560" cy="2562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1" descr="6"/>
          <p:cNvPicPr/>
          <p:nvPr/>
        </p:nvPicPr>
        <p:blipFill>
          <a:blip r:embed="rId4"/>
          <a:stretch/>
        </p:blipFill>
        <p:spPr>
          <a:xfrm>
            <a:off x="5695920" y="-3240"/>
            <a:ext cx="3448080" cy="6856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2" descr="5"/>
          <p:cNvPicPr/>
          <p:nvPr/>
        </p:nvPicPr>
        <p:blipFill>
          <a:blip r:embed="rId5"/>
          <a:stretch/>
        </p:blipFill>
        <p:spPr>
          <a:xfrm>
            <a:off x="0" y="4290840"/>
            <a:ext cx="4057560" cy="25624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4" descr="2"/>
          <p:cNvPicPr/>
          <p:nvPr/>
        </p:nvPicPr>
        <p:blipFill>
          <a:blip r:embed="rId6"/>
          <a:stretch/>
        </p:blipFill>
        <p:spPr>
          <a:xfrm>
            <a:off x="0" y="2467080"/>
            <a:ext cx="2629080" cy="32194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6" descr="4"/>
          <p:cNvPicPr/>
          <p:nvPr/>
        </p:nvPicPr>
        <p:blipFill>
          <a:blip r:embed="rId7"/>
          <a:stretch/>
        </p:blipFill>
        <p:spPr>
          <a:xfrm>
            <a:off x="250920" y="4581360"/>
            <a:ext cx="4400280" cy="1657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8" descr="1"/>
          <p:cNvPicPr/>
          <p:nvPr/>
        </p:nvPicPr>
        <p:blipFill>
          <a:blip r:embed="rId8"/>
          <a:stretch/>
        </p:blipFill>
        <p:spPr>
          <a:xfrm>
            <a:off x="0" y="-3240"/>
            <a:ext cx="3105000" cy="2476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1258920" y="162864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9900"/>
                </a:solidFill>
                <a:latin typeface="HY견고딕"/>
              </a:rPr>
              <a:t>콘텐츠산업</a:t>
            </a:r>
            <a:r>
              <a:rPr b="0" lang="ko-KR" sz="4000" spc="-1" strike="noStrike">
                <a:solidFill>
                  <a:srgbClr val="003366"/>
                </a:solidFill>
                <a:latin typeface="HY견고딕"/>
              </a:rPr>
              <a:t> </a:t>
            </a:r>
            <a:r>
              <a:rPr b="0" lang="ko-KR" sz="4000" spc="-1" strike="noStrike">
                <a:solidFill>
                  <a:srgbClr val="ff6600"/>
                </a:solidFill>
                <a:latin typeface="HY견고딕"/>
              </a:rPr>
              <a:t>지원체계 개선안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Y견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52" name="Rectangle 26"/>
          <p:cNvSpPr/>
          <p:nvPr/>
        </p:nvSpPr>
        <p:spPr>
          <a:xfrm>
            <a:off x="3586680" y="4005360"/>
            <a:ext cx="172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Y견고딕"/>
              </a:rPr>
              <a:t>2011. 6. 21</a:t>
            </a: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HY견고딕"/>
              </a:rPr>
              <a:t>용 인 대 학 교 </a:t>
            </a: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HY견고딕"/>
              </a:rPr>
              <a:t>문화콘텐츠학과</a:t>
            </a: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HY견고딕"/>
              </a:rPr>
              <a:t>최 영 호</a:t>
            </a: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6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lIns="900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견고딕"/>
              </a:rPr>
              <a:t>실크로드</a:t>
            </a:r>
            <a:br>
              <a:rPr sz="3200"/>
            </a:br>
            <a:r>
              <a:rPr b="0" lang="ko-KR" sz="2200" spc="-1" strike="noStrike">
                <a:solidFill>
                  <a:srgbClr val="969696"/>
                </a:solidFill>
                <a:latin typeface="HY견고딕"/>
                <a:ea typeface="Arial Unicode MS"/>
              </a:rPr>
              <a:t>제작사 조이맥스</a:t>
            </a:r>
            <a:endParaRPr b="0" lang="en-US" sz="2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898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3399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스타프로젝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: 450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백만원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3399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GSP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지원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30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억원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SP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업체가 공동                  으로 혜택받음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582" name="Picture 4" descr=""/>
          <p:cNvPicPr/>
          <p:nvPr/>
        </p:nvPicPr>
        <p:blipFill>
          <a:blip r:embed="rId1"/>
          <a:stretch/>
        </p:blipFill>
        <p:spPr>
          <a:xfrm>
            <a:off x="4788000" y="4005360"/>
            <a:ext cx="3186000" cy="23763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168720" cy="2440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02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년 벤처기업에 대한 자금</a:t>
            </a: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지원 정책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12500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간접지원방식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벤처 투자자에 대한 조세지원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주식양도차익비과세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지적재산권보호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자회수시장의 활성화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스톡옵션 부여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직접지원방식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정부의 지분투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정부 융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융자보증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지분투자보증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자자 규제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고딕"/>
              </a:rPr>
              <a:t>지원방식 개선 결과는 </a:t>
            </a:r>
            <a:r>
              <a:rPr b="0" lang="en-US" sz="3200" spc="-1" strike="noStrike">
                <a:solidFill>
                  <a:srgbClr val="000000"/>
                </a:solidFill>
                <a:latin typeface="HY견고딕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09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년 개선방안 결과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선택과 집중을 통한 성과 창출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’10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년 시행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쟝르간 통합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OSMU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지원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10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년 부터 글로벌 지원 프로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젝트 시행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융자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보증보험 등 타기관 연계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11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년 융자 시행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간접지원 확대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일부 시행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기타 선정 방식과 사업 관리면에서도 시행 추진중 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향후 개선방안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업계가 바라는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금융선진화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자확대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신용대출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시장 확대를 위한 방안 마련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소비자와 직접구매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영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음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게임 등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소비자와 간접구매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애니메이션 등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해외시장의 확대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성공한 콘텐츠에 대한 부가판매 촉진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91" name="직사각형 6"/>
          <p:cNvSpPr/>
          <p:nvPr/>
        </p:nvSpPr>
        <p:spPr>
          <a:xfrm>
            <a:off x="755640" y="1413000"/>
            <a:ext cx="6048360" cy="647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지원 방식 개선을 위하여 고려할 점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개선방안 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지원 방식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68360" y="1125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가능성 있는 기업에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1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차 제작한 콘텐츠에 대하여 시즌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제작시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창의력 개발을 위한 인프라를 확장 시킬 수 있는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스토리텔링에 대한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기획에 대한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드라마의 경우에는 단막극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94" name="직사각형 3"/>
          <p:cNvSpPr/>
          <p:nvPr/>
        </p:nvSpPr>
        <p:spPr>
          <a:xfrm>
            <a:off x="900000" y="1197000"/>
            <a:ext cx="3456000" cy="576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업계가 바라는 지원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개선방안 </a:t>
            </a: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지원방식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9528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신용담보대출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일부 재원을 전용하여 보증에 대한 지원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필요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현재 기업은행과 신용대출을 진행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하고 있어 이의 확대 필요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자확대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자시 위험을 분산시키기 위하여 기획단계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자는 진흥원과 공동으로 진행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예를 들면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자사 선정후 기획작품 공동심사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97" name="직사각형 5"/>
          <p:cNvSpPr/>
          <p:nvPr/>
        </p:nvSpPr>
        <p:spPr>
          <a:xfrm>
            <a:off x="900000" y="1341360"/>
            <a:ext cx="215928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금융선진화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개선방안 </a:t>
            </a: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지원방식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6840" y="1052640"/>
            <a:ext cx="8435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소비자가 직접 구매하는 콘텐츠와 간접 구매하는 콘텐츠를 구분하여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직접 구매 콘텐츠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음악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게임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만화 등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캐시백 제도 도입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간접 구매 콘텐츠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애니메이션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On Demand, DVD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제작 등에 활용 할 수 있도록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00" name="직사각형 3"/>
          <p:cNvSpPr/>
          <p:nvPr/>
        </p:nvSpPr>
        <p:spPr>
          <a:xfrm>
            <a:off x="826920" y="1268280"/>
            <a:ext cx="3816360" cy="648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시장확대를 위한 방안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개선방안 </a:t>
            </a: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지원방식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125360"/>
            <a:ext cx="8362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애니메이션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드라마 등 일정부분 판권 구매하여 동구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,   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남미 등 해외 지역 배포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드라마의 경우에는 중국과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JOINT VENTURE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만들어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공동제작 추진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중국 광전총국과의 협의 선결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라이센시와 라이센서 공동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03" name="직사각형 4"/>
          <p:cNvSpPr/>
          <p:nvPr/>
        </p:nvSpPr>
        <p:spPr>
          <a:xfrm>
            <a:off x="900000" y="1268280"/>
            <a:ext cx="2664000" cy="576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해외시장 확대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4" name="직사각형 5"/>
          <p:cNvSpPr/>
          <p:nvPr/>
        </p:nvSpPr>
        <p:spPr>
          <a:xfrm>
            <a:off x="971640" y="4724280"/>
            <a:ext cx="5400720" cy="576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성공한 콘텐츠의 부가판매 촉진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개선방안 </a:t>
            </a: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선정 방식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사업 목적을 명확히 하고 사업 목적에 적합한 평가표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작성이 최대 관건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장르별로 선정방식 구분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장르별로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FGI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를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위한 조사자 선정하여 진행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이후 투자사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또는 기획사와 공동 심사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개발을 위한 기업과 매출을 위한 기업 구분은 우선진행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기업에 창의연구소 창설 활성화를 위하여 기술개발 자금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은 기업연구소와 공동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왜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Noki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는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어려움을 겪고 있을까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왜 일본 경제는 어려움을 겪고 있을까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개선방안 </a:t>
            </a: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사후관리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개발 후 시장도입 여부 철저히 확인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1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차 서류심사 전 내부요원 또는 회계사와 함께 이전     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개발한 사항이 있으면 시장도입여부 확인하여 수치화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지원 받은 후 성과가 있었던 부분도 심사에 반영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결과 평가를 수치화하고 심사 시 활용 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그 외에는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출연기관으로서 자리매김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자기관 선정하여 지원한 후 수익이 날 경우 일정 부분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배분 필요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수익이 난 부분은 일정 금액 경상비 등으로 활용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에필로그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의지가 우선이고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신뢰를 바탕으로 변화는 이루어집니다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작은 노력과 상호 협력을 통하여 콘텐츠산업의 중흥기를 이끌어 갑시다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13" name="직사각형 3"/>
          <p:cNvSpPr/>
          <p:nvPr/>
        </p:nvSpPr>
        <p:spPr>
          <a:xfrm>
            <a:off x="2771640" y="4869000"/>
            <a:ext cx="3240360" cy="79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감 사 합 니 다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어떻게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K-POP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이 유럽에서 성공하였을까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어떻게 우리나라 조선은 세계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위가 되었을까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콘텐츠기업의 현재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556" name="내용 개체 틀 5" descr="상장된 콘텐츠 기업현황.PNG"/>
          <p:cNvPicPr/>
          <p:nvPr/>
        </p:nvPicPr>
        <p:blipFill>
          <a:blip r:embed="rId1"/>
          <a:stretch/>
        </p:blipFill>
        <p:spPr>
          <a:xfrm>
            <a:off x="395280" y="2565360"/>
            <a:ext cx="8288280" cy="316728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0755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세계 속에 한류는 있는데 한국 내 한류는 있나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?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예산규모는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853040" cy="37450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777708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문화산업 예산규모는 국가 전체예산의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0.16%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고딕"/>
              </a:rPr>
              <a:t>과연 </a:t>
            </a:r>
            <a:r>
              <a:rPr b="0" lang="en-US" sz="3200" spc="-1" strike="noStrike">
                <a:solidFill>
                  <a:srgbClr val="000000"/>
                </a:solidFill>
                <a:latin typeface="HY견고딕"/>
              </a:rPr>
              <a:t>K-POP 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</a:rPr>
              <a:t>과 핸드폰이나 조선을 비교하면 무엇이 한국을 대표할까요</a:t>
            </a:r>
            <a:r>
              <a:rPr b="0" lang="en-US" sz="3200" spc="-1" strike="noStrike">
                <a:solidFill>
                  <a:srgbClr val="000000"/>
                </a:solidFill>
                <a:latin typeface="HY견고딕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</a:rPr>
              <a:t>10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</a:rPr>
              <a:t>년 후 한국을 알릴 수 있는 것이 무엇  일까요</a:t>
            </a:r>
            <a:r>
              <a:rPr b="0" lang="en-US" sz="3200" spc="-1" strike="noStrike">
                <a:solidFill>
                  <a:srgbClr val="000000"/>
                </a:solidFill>
                <a:latin typeface="HY견고딕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콘텐츠 업계가 바라고 있는 지원은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전국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149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개업체 현장애로 실태조사 결과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경영 부분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자금 조달 어려움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정부 부분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제작 지원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79%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중점 요청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거래 부분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개발비 상승 미반영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66.7%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불공정 거래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36.9%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정책개선 요청 사항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담보 문제 해결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대기업과 상생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94"/>
          <p:cNvSpPr/>
          <p:nvPr/>
        </p:nvSpPr>
        <p:spPr>
          <a:xfrm>
            <a:off x="5692680" y="4199040"/>
            <a:ext cx="3451320" cy="1214280"/>
          </a:xfrm>
          <a:prstGeom prst="parallelogram">
            <a:avLst>
              <a:gd name="adj" fmla="val 18488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5" name="AutoShape 93"/>
          <p:cNvSpPr/>
          <p:nvPr/>
        </p:nvSpPr>
        <p:spPr>
          <a:xfrm>
            <a:off x="468360" y="1413000"/>
            <a:ext cx="8477280" cy="5256000"/>
          </a:xfrm>
          <a:prstGeom prst="roundRect">
            <a:avLst>
              <a:gd name="adj" fmla="val 2880"/>
            </a:avLst>
          </a:prstGeom>
          <a:gradFill rotWithShape="0">
            <a:gsLst>
              <a:gs pos="0">
                <a:srgbClr val="dddddd"/>
              </a:gs>
              <a:gs pos="50000">
                <a:srgbClr val="f9f9f9"/>
              </a:gs>
              <a:gs pos="100000">
                <a:srgbClr val="dddddd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6" name="AutoShape 19"/>
          <p:cNvSpPr/>
          <p:nvPr/>
        </p:nvSpPr>
        <p:spPr>
          <a:xfrm>
            <a:off x="611280" y="1413000"/>
            <a:ext cx="8353440" cy="5256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567" name="Picture 82" descr="EMB00000fc40001"/>
          <p:cNvPicPr/>
          <p:nvPr/>
        </p:nvPicPr>
        <p:blipFill>
          <a:blip r:embed="rId1"/>
          <a:stretch/>
        </p:blipFill>
        <p:spPr>
          <a:xfrm>
            <a:off x="5364000" y="1916280"/>
            <a:ext cx="3024360" cy="4271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68" name="뽀로로_저용량.wmv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3816360" cy="238140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436"/>
          <p:cNvSpPr/>
          <p:nvPr/>
        </p:nvSpPr>
        <p:spPr>
          <a:xfrm>
            <a:off x="9067320" y="681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Arial"/>
                <a:ea typeface="HY헤드라인M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0" name="Text Box 30"/>
          <p:cNvSpPr/>
          <p:nvPr/>
        </p:nvSpPr>
        <p:spPr>
          <a:xfrm>
            <a:off x="611280" y="0"/>
            <a:ext cx="4392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뽀롱뽀롱 뽀로로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808080"/>
                </a:solidFill>
                <a:latin typeface="HY견고딕"/>
              </a:rPr>
              <a:t>제작사 </a:t>
            </a:r>
            <a:r>
              <a:rPr b="0" lang="en-US" sz="2200" spc="-1" strike="noStrike">
                <a:solidFill>
                  <a:srgbClr val="808080"/>
                </a:solidFill>
                <a:latin typeface="HY견고딕"/>
              </a:rPr>
              <a:t>: </a:t>
            </a:r>
            <a:r>
              <a:rPr b="0" lang="ko-KR" sz="2200" spc="-1" strike="noStrike">
                <a:solidFill>
                  <a:srgbClr val="808080"/>
                </a:solidFill>
                <a:latin typeface="HY견고딕"/>
              </a:rPr>
              <a:t>아이코닉스</a:t>
            </a:r>
            <a:endParaRPr b="0" lang="en-US" sz="2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1" name="Rectangle 17"/>
          <p:cNvSpPr/>
          <p:nvPr/>
        </p:nvSpPr>
        <p:spPr>
          <a:xfrm>
            <a:off x="684360" y="1413000"/>
            <a:ext cx="410364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6160" indent="-146160">
              <a:lnSpc>
                <a:spcPct val="21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HY견고딕"/>
              </a:rPr>
              <a:t>02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우수파일럿 지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(60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백만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HY견고딕"/>
            </a:endParaRPr>
          </a:p>
          <a:p>
            <a:pPr marL="146160" indent="-146160">
              <a:lnSpc>
                <a:spcPct val="21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HY견고딕"/>
              </a:rPr>
              <a:t>03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애니메이션 수출지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( 39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백만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HY견고딕"/>
            </a:endParaRPr>
          </a:p>
          <a:p>
            <a:pPr marL="146160" indent="-146160">
              <a:lnSpc>
                <a:spcPct val="21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HY견고딕"/>
              </a:rPr>
              <a:t>04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스타 프로젝트 지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(590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백만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HY견고딕"/>
            </a:endParaRPr>
          </a:p>
          <a:p>
            <a:pPr marL="146160" indent="-146160">
              <a:lnSpc>
                <a:spcPct val="21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HY견고딕"/>
              </a:rPr>
              <a:t>04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해외배급 지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(78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백만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HY견고딕"/>
            </a:endParaRPr>
          </a:p>
          <a:p>
            <a:pPr marL="146160" indent="-146160">
              <a:lnSpc>
                <a:spcPct val="210000"/>
              </a:lnSpc>
              <a:spcBef>
                <a:spcPts val="3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HY견고딕"/>
            </a:endParaRPr>
          </a:p>
          <a:p>
            <a:pPr marL="146160" indent="-146160">
              <a:lnSpc>
                <a:spcPct val="2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2415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455760" y="1268280"/>
            <a:ext cx="8688240" cy="5329080"/>
            <a:chOff x="455760" y="1268280"/>
            <a:chExt cx="8688240" cy="5329080"/>
          </a:xfrm>
        </p:grpSpPr>
        <p:sp>
          <p:nvSpPr>
            <p:cNvPr id="573" name="AutoShape 94"/>
            <p:cNvSpPr/>
            <p:nvPr/>
          </p:nvSpPr>
          <p:spPr>
            <a:xfrm>
              <a:off x="5692680" y="4977000"/>
              <a:ext cx="3451320" cy="1587240"/>
            </a:xfrm>
            <a:prstGeom prst="parallelogram">
              <a:avLst>
                <a:gd name="adj" fmla="val 14144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HY견고딕"/>
              </a:endParaRPr>
            </a:p>
          </p:txBody>
        </p:sp>
        <p:sp>
          <p:nvSpPr>
            <p:cNvPr id="574" name="AutoShape 93"/>
            <p:cNvSpPr/>
            <p:nvPr/>
          </p:nvSpPr>
          <p:spPr>
            <a:xfrm>
              <a:off x="455760" y="1268280"/>
              <a:ext cx="8477280" cy="5329080"/>
            </a:xfrm>
            <a:prstGeom prst="roundRect">
              <a:avLst>
                <a:gd name="adj" fmla="val 288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9f9f9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585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HY견고딕"/>
              </a:endParaRPr>
            </a:p>
          </p:txBody>
        </p:sp>
        <p:sp>
          <p:nvSpPr>
            <p:cNvPr id="575" name="AutoShape 5"/>
            <p:cNvSpPr/>
            <p:nvPr/>
          </p:nvSpPr>
          <p:spPr>
            <a:xfrm>
              <a:off x="522360" y="1336320"/>
              <a:ext cx="8353440" cy="5200560"/>
            </a:xfrm>
            <a:prstGeom prst="roundRect">
              <a:avLst>
                <a:gd name="adj" fmla="val 2727"/>
              </a:avLst>
            </a:prstGeom>
            <a:noFill/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HY견고딕"/>
              </a:endParaRPr>
            </a:p>
          </p:txBody>
        </p:sp>
      </p:grpSp>
      <p:sp>
        <p:nvSpPr>
          <p:cNvPr id="576" name="Text Box 14"/>
          <p:cNvSpPr/>
          <p:nvPr/>
        </p:nvSpPr>
        <p:spPr>
          <a:xfrm>
            <a:off x="611280" y="-27000"/>
            <a:ext cx="4392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뿌까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808080"/>
                </a:solidFill>
                <a:latin typeface="HY견고딕"/>
              </a:rPr>
              <a:t>제작사 </a:t>
            </a:r>
            <a:r>
              <a:rPr b="0" lang="en-US" sz="2200" spc="-1" strike="noStrike">
                <a:solidFill>
                  <a:srgbClr val="808080"/>
                </a:solidFill>
                <a:latin typeface="HY견고딕"/>
              </a:rPr>
              <a:t>: </a:t>
            </a:r>
            <a:r>
              <a:rPr b="0" lang="ko-KR" sz="2200" spc="-1" strike="noStrike">
                <a:solidFill>
                  <a:srgbClr val="808080"/>
                </a:solidFill>
                <a:latin typeface="HY견고딕"/>
              </a:rPr>
              <a:t>부즈</a:t>
            </a:r>
            <a:endParaRPr b="0" lang="en-US" sz="2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7" name="Rectangle 15"/>
          <p:cNvSpPr/>
          <p:nvPr/>
        </p:nvSpPr>
        <p:spPr>
          <a:xfrm>
            <a:off x="5292720" y="1989000"/>
            <a:ext cx="3166920" cy="388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8" name="Rectangle 16"/>
          <p:cNvSpPr/>
          <p:nvPr/>
        </p:nvSpPr>
        <p:spPr>
          <a:xfrm>
            <a:off x="900000" y="3860640"/>
            <a:ext cx="3527640" cy="24480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9" name="Rectangle 17"/>
          <p:cNvSpPr/>
          <p:nvPr/>
        </p:nvSpPr>
        <p:spPr>
          <a:xfrm>
            <a:off x="1232280" y="1484280"/>
            <a:ext cx="318708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6160" indent="-146160">
              <a:lnSpc>
                <a:spcPct val="25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HY견고딕"/>
              </a:rPr>
              <a:t>02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해외 공동제작지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(22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백만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HY견고딕"/>
            </a:endParaRPr>
          </a:p>
          <a:p>
            <a:pPr marL="146160" indent="-146160">
              <a:lnSpc>
                <a:spcPct val="25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HY견고딕"/>
              </a:rPr>
              <a:t>03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국외지적재산권출원지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(14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백만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HY견고딕"/>
            </a:endParaRPr>
          </a:p>
          <a:p>
            <a:pPr marL="146160" indent="-146160">
              <a:lnSpc>
                <a:spcPct val="25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HY견고딕"/>
              </a:rPr>
              <a:t>04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스타 프로젝트 지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(320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백만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HY견고딕"/>
            </a:endParaRPr>
          </a:p>
          <a:p>
            <a:pPr marL="146160" indent="-146160">
              <a:lnSpc>
                <a:spcPct val="2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05:08:37Z</dcterms:created>
  <dc:creator>runrt</dc:creator>
  <dc:description/>
  <dc:language>en-US</dc:language>
  <cp:lastModifiedBy>KOCCA</cp:lastModifiedBy>
  <dcterms:modified xsi:type="dcterms:W3CDTF">2011-06-20T02:28:37Z</dcterms:modified>
  <cp:revision>1195</cp:revision>
  <dc:subject/>
  <dc:title>슬라이드 1</dc:title>
</cp:coreProperties>
</file>